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514-010A-43F1-86F3-03EBB219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757-F2D6-4DC7-9B65-B2A5B35C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880-E888-4C9F-ABE6-FABF4E97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D8A-E355-4378-B5EF-EC36B628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8F4D-7FAF-4D48-A14D-48B922B3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7DC-9B00-4670-BFF1-7E2E431F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8E4-6B47-4FDE-B2CD-82BF5574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A9F-FA3A-4BFA-836E-DC705C9D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135-7B0F-4E47-A534-939DFB11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FC1F-8F9B-4967-A5DA-4A10AE7F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81F-01BF-4DFC-8BCC-48DE025D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162A-E240-439D-BF88-8CF0001A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3804-5FC5-4E31-9A24-4B9B3AA9B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ME’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EGIN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Capitoline Wolf sculpture of Romulus and Remus"/>
          <p:cNvPicPr/>
          <p:nvPr/>
        </p:nvPicPr>
        <p:blipFill>
          <a:blip r:embed="rId1"/>
          <a:stretch/>
        </p:blipFill>
        <p:spPr>
          <a:xfrm>
            <a:off x="1600200" y="1447920"/>
            <a:ext cx="5943600" cy="432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pitoline Wolf sculpture depicts a she-wolf suckling Romulus and Remus, Rome's legendary founders. Now a symbol of R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334120" cy="4648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1981080"/>
            <a:ext cx="32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ch of Rome’s early history comes from legends.  The legends may not be totally accurate but are useful in giving the qualities and values the early Romans adm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762440" cy="4496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4120" y="2286000"/>
            <a:ext cx="3429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er of Rome in 753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of seven k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ed Rome’s first army and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a Pompil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3897360" cy="4400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2743200"/>
            <a:ext cx="3962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e’s second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ught peace to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ed Rome’s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rusc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Charioteers round track at Circus Maximus"/>
          <p:cNvPicPr/>
          <p:nvPr/>
        </p:nvPicPr>
        <p:blipFill>
          <a:blip r:embed="rId1"/>
          <a:stretch/>
        </p:blipFill>
        <p:spPr>
          <a:xfrm>
            <a:off x="152280" y="1828800"/>
            <a:ext cx="4876920" cy="426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81480" y="685800"/>
            <a:ext cx="37339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e’s powerful neighbors to the north from Etr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re wealthy tr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ed Rome from 575 – 509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ve the Romans their alphabet and the “arc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e becomes a walled city with paved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t Circus Maximus, Temple of Jupiter, Cloaca Max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quin the Pr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886200" cy="476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00600" y="2362320"/>
            <a:ext cx="4114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and last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cruel and terrorized his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gnored the 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9 BCE Romans rebel and send him into ex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8:41:30Z</dcterms:created>
  <dc:creator>gehadde</dc:creator>
  <dc:description/>
  <dc:language>en-US</dc:language>
  <cp:lastModifiedBy>gehadde</cp:lastModifiedBy>
  <dcterms:modified xsi:type="dcterms:W3CDTF">2012-05-21T13:24:22Z</dcterms:modified>
  <cp:revision>17</cp:revision>
  <dc:subject/>
  <dc:title>WARM-UP: #2</dc:title>
</cp:coreProperties>
</file>